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0167E-82AB-4353-BB56-AD75D70F6D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E0F10-9883-4E8E-A327-6E16F86077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50A61-54D6-4A6C-900F-E592213AC2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112D2-D6C2-4B7B-8E65-2E0E06BFBA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AA018-1676-457D-8A96-DAD5DC1F4B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24C93-7E14-4CDB-B723-9B1603D7A5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68211-0FF0-4AF5-92EB-567C19DE51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1F170-34F4-4901-830E-698FBB2577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843CC-9BB5-4A9E-8609-88E402834D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1A3C5-6800-478B-985B-4131CF6748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46E5C-9417-422B-9DE2-19D3E2DDFD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9D762-0822-4599-A14B-156953FCFC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95280" y="260280"/>
            <a:ext cx="152280" cy="63374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68120" y="260280"/>
            <a:ext cx="155880" cy="633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459280" y="6356160"/>
            <a:ext cx="682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80012B1-615B-4966-8F66-6274CE969317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48720" y="6350040"/>
            <a:ext cx="144360" cy="404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06200" y="6404040"/>
            <a:ext cx="649440" cy="40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55640" y="404640"/>
            <a:ext cx="8064360" cy="6120000"/>
          </a:xfrm>
          <a:prstGeom prst="rect">
            <a:avLst/>
          </a:prstGeom>
          <a:solidFill>
            <a:srgbClr val="a50021"/>
          </a:solidFill>
          <a:ln cap="sq"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7280" y="2636640"/>
            <a:ext cx="72374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404640"/>
            <a:ext cx="144360" cy="6120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8120" y="404640"/>
            <a:ext cx="147960" cy="6120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44360" y="141120"/>
          <a:ext cx="1187640" cy="69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360" y="141120"/>
                    <a:ext cx="118764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ervice-public.fr/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6920" y="1412640"/>
            <a:ext cx="72392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3400" spc="-1" strike="noStrike">
                <a:solidFill>
                  <a:srgbClr val="ffffff"/>
                </a:solidFill>
                <a:latin typeface="Arial"/>
              </a:rPr>
              <a:t>Cycle de conférences KSAP-ENA</a:t>
            </a:r>
            <a:br>
              <a:rPr sz="3400"/>
            </a:br>
            <a:br>
              <a:rPr sz="34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De la modernisation</a:t>
            </a:r>
            <a:br>
              <a:rPr sz="38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à la réforme de l’Etat</a:t>
            </a:r>
            <a:br>
              <a:rPr sz="34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en France</a:t>
            </a:r>
            <a:br>
              <a:rPr sz="3400"/>
            </a:br>
            <a:br>
              <a:rPr sz="3400"/>
            </a:br>
            <a:r>
              <a:rPr b="0" lang="pl-PL" sz="3000" spc="-1" strike="noStrike">
                <a:solidFill>
                  <a:srgbClr val="ffffff"/>
                </a:solidFill>
                <a:latin typeface="Arial"/>
              </a:rPr>
              <a:t>Frank MORDACQ</a:t>
            </a:r>
            <a:br>
              <a:rPr sz="30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Ministère du Budget, des Comptes publics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et de la Fonction publique - Par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450480" y="6014880"/>
            <a:ext cx="256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 Narrow"/>
              </a:rPr>
              <a:t>Varsovie, 11 décembre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438280" y="6489720"/>
            <a:ext cx="495324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Conférence cofinancée par l'Union Européenn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dans le cadre du Fond Social Europé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2209680" y="6531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6629400" y="6548400"/>
          <a:ext cx="83808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29400" y="6548400"/>
                    <a:ext cx="83808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287280" y="1341360"/>
            <a:ext cx="8675640" cy="5397480"/>
            <a:chOff x="287280" y="1341360"/>
            <a:chExt cx="8675640" cy="5397480"/>
          </a:xfrm>
        </p:grpSpPr>
        <p:sp>
          <p:nvSpPr>
            <p:cNvPr id="149" name=""/>
            <p:cNvSpPr/>
            <p:nvPr/>
          </p:nvSpPr>
          <p:spPr>
            <a:xfrm>
              <a:off x="757080" y="5157720"/>
              <a:ext cx="2986200" cy="1500120"/>
            </a:xfrm>
            <a:prstGeom prst="ellipse">
              <a:avLst/>
            </a:prstGeom>
            <a:solidFill>
              <a:srgbClr val="ffffff"/>
            </a:solidFill>
            <a:ln cap="sq"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079640" y="5435640"/>
              <a:ext cx="23508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fr-BE" sz="1400" spc="-1" strike="noStrike">
                  <a:solidFill>
                    <a:srgbClr val="003399"/>
                  </a:solidFill>
                  <a:latin typeface="Arial"/>
                </a:rPr>
                <a:t>Chaque administration met à disposition de l’usager ses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 informations et documents « bruts 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287280" y="1484280"/>
              <a:ext cx="5543640" cy="456552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32360" y="1341360"/>
              <a:ext cx="2662200" cy="5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Vers une administration centrée sur l’usag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92360" y="3645000"/>
              <a:ext cx="2986200" cy="1500120"/>
            </a:xfrm>
            <a:prstGeom prst="ellipse">
              <a:avLst/>
            </a:prstGeom>
            <a:solidFill>
              <a:srgbClr val="ffffff"/>
            </a:solidFill>
            <a:ln cap="sq"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914560" y="3922560"/>
              <a:ext cx="2351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fr-BE" sz="1400" spc="-1" strike="noStrike">
                  <a:solidFill>
                    <a:srgbClr val="003399"/>
                  </a:solidFill>
                  <a:latin typeface="Arial"/>
                </a:rPr>
                <a:t>Une chaîne de traitement «en ligne» amène à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 repenser les processus, organisations et méti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92720" y="2205000"/>
              <a:ext cx="2806560" cy="1366920"/>
            </a:xfrm>
            <a:prstGeom prst="ellipse">
              <a:avLst/>
            </a:prstGeom>
            <a:solidFill>
              <a:srgbClr val="ffffff"/>
            </a:solidFill>
            <a:ln cap="sq"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714920" y="2482920"/>
              <a:ext cx="23511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fr-BE" sz="1400" spc="-1" strike="noStrike">
                  <a:solidFill>
                    <a:srgbClr val="003399"/>
                  </a:solidFill>
                  <a:latin typeface="Arial"/>
                </a:rPr>
                <a:t>L’administration se tourne vers l’usager pour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 mieux répondre à ses atten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66560" y="3479760"/>
              <a:ext cx="20163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Les travers d’une 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administration «auto-centrée»: 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complexité,</a:t>
              </a:r>
              <a:br>
                <a:rPr sz="1600"/>
              </a:b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délais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464000" y="5302080"/>
              <a:ext cx="1306440" cy="284400"/>
            </a:xfrm>
            <a:custGeom>
              <a:avLst/>
              <a:gdLst>
                <a:gd name="textAreaLeft" fmla="*/ 228600 w 1306440"/>
                <a:gd name="textAreaRight" fmla="*/ 947160 w 1306440"/>
                <a:gd name="textAreaTop" fmla="*/ 37800 h 284400"/>
                <a:gd name="textAreaBottom" fmla="*/ 246600 h 28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cc00"/>
            </a:solidFill>
            <a:ln cap="sq" w="1908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688000" y="4726080"/>
              <a:ext cx="2735280" cy="128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Ex. : dématérialisation de la déclaration de l’impôt sur le revenu avec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Télé-I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Portail : Administration24h24.gouv.fr : 600 formalités « dématérialisées 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832360" y="3789360"/>
              <a:ext cx="1306800" cy="284040"/>
            </a:xfrm>
            <a:custGeom>
              <a:avLst/>
              <a:gdLst>
                <a:gd name="textAreaLeft" fmla="*/ 228600 w 1306800"/>
                <a:gd name="textAreaRight" fmla="*/ 947520 w 1306800"/>
                <a:gd name="textAreaTop" fmla="*/ 37800 h 284040"/>
                <a:gd name="textAreaBottom" fmla="*/ 246240 h 28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cc00"/>
            </a:solidFill>
            <a:ln cap="sq" w="1908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199280" y="2565360"/>
              <a:ext cx="1763640" cy="219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Sur 1 thème :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changement d’adresse en lig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En transversal :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mon.service-public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 : un espace de stockage de données administratives certifiées et l’accès aux démarches en lig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384720" y="6453360"/>
              <a:ext cx="1306440" cy="285480"/>
            </a:xfrm>
            <a:custGeom>
              <a:avLst/>
              <a:gdLst>
                <a:gd name="textAreaLeft" fmla="*/ 228600 w 1306440"/>
                <a:gd name="textAreaRight" fmla="*/ 947160 w 1306440"/>
                <a:gd name="textAreaTop" fmla="*/ 38160 h 285480"/>
                <a:gd name="textAreaBottom" fmla="*/ 24732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cc00"/>
            </a:solidFill>
            <a:ln cap="sq" w="1908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680000" y="6237360"/>
              <a:ext cx="223200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Ex. :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formulaires pdf  à imprimer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 sur service-public.f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978920" y="5141160"/>
              <a:ext cx="392040" cy="393840"/>
            </a:xfrm>
            <a:prstGeom prst="ellipse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50560" y="3629880"/>
              <a:ext cx="392040" cy="393840"/>
            </a:xfrm>
            <a:prstGeom prst="ellipse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50920" y="2188440"/>
              <a:ext cx="392040" cy="393840"/>
            </a:xfrm>
            <a:prstGeom prst="ellipse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813744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Le développement de l’administration électronique : un levier de transformation pour toute l’administ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73550-325D-43D3-A534-85097F539A10}" type="slidenum">
              <a:t>10</a:t>
            </a:fld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 développement des services en lign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6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Dématérialiser les démarches et offrir de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nouveaux services en ligne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ématérialisation des formulaire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et accès par un site unique (</a:t>
            </a:r>
            <a:r>
              <a:rPr b="0" lang="pl-PL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service-public.fr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hangement d’adresse en lign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(15 services, 30% des déménagement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Actes de naissance en lign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(5.000 demandes par jour),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éploiement début 2009 du portail « 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on.service-public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 »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xpérimentation 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elais de Services Public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man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e subventions en lign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, etc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55640" y="5373720"/>
            <a:ext cx="8064360" cy="863640"/>
          </a:xfrm>
          <a:prstGeom prst="flowChartAlternateProcess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La France est entrée dans le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Top 5 européen pour les services publics en ligne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(étude Capgemini pour la Commission européenne, juin 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2434B-7E2C-44A1-9525-10EEB95C5ED1}" type="slidenum">
              <a:t>11</a:t>
            </a:fld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755640" y="1915920"/>
            <a:ext cx="79279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Les enjeux de la modernisation de l’Etat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Le pilotage de la réforme de l’Et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De la modernisation à la réforme de l’Etat :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7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la Révision Générale des Politiques Publique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Sommair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11CBC-D4F5-4BAD-918B-3A3A2D48D392}" type="slidenum">
              <a:t>12</a:t>
            </a:fld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a conduite de la réforme de l’Et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1995 : La réforme de l’Etat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ttachée au Premier Ministr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Commissariat à la réforme de l’Etat (CRE)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1997-2005 : La réforme de l’Etat rattaché au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inistre de la fonction publique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: Délégation interministérielle à la réforme de l’Etat (DIRE) puis divers organismes: DMGPSE, DUSA, ADAE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2003 : Direction de la réforme budgétaire (DRB) au ministère du budget pour la mise en œuvre de la LOLF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2005 : Le rattachement de la réforme de l’Etat auprès du Budget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réation de la direction générale de la modernisation de l’Etat (DGME)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Une volonté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olitique, une continuité entre réforme budgétaire et réforme de l’Eta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Une synergie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des compétences et des leviers d’acti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2007 : Budget + Réforme de l’Etat + Fonction publique auprès du ministre du budge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FE45F-920D-420D-A822-E60877DE919F}" type="slidenum">
              <a:t>13</a:t>
            </a:fld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a DGM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Un rattachement au ministre du budge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1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Une fusion de toutes les structures existantes 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assurant la synergie des compétences et des leviers d’action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Mission de la DGME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«Coordonner, aider et inciter, au niveau interministériel, les administrations en vue de moderniser les modes de fonctionnement et de gestion de l’Etat pour améliorer le service rendu aux usagers, contribuer à une utilisation plus performante des deniers publics et mobiliser les agents publics»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Une </a:t>
            </a: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organisation pour l’essentiel en mode projet : conseil/ services/innovati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Une culture mixte public/privé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: fonctionnaires d’Etat et contractuels du secteur privé +assistance de prestataires extérieurs de cabinets de consei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5f5f5f"/>
                </a:solidFill>
                <a:latin typeface="Arial"/>
              </a:rPr>
              <a:t>Définir des référentiels et mettre en cohérence les sujets interministériels clés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5f5f5f"/>
                </a:solidFill>
                <a:latin typeface="Arial"/>
              </a:rPr>
              <a:t>Impulser les chantiers concrets de modernisation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5f5f5f"/>
                </a:solidFill>
                <a:latin typeface="Arial"/>
              </a:rPr>
              <a:t>Aider et accompagner les administrations dans leurs transformations</a:t>
            </a:r>
            <a:r>
              <a:rPr b="0" lang="pl-PL" sz="16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95652-E6AE-455E-9025-27C048AC7FCD}" type="slidenum">
              <a:t>14</a:t>
            </a:fld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es audits de modernisation 2005-2007 : une démarche innovant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780000" y="2090880"/>
            <a:ext cx="4968720" cy="119376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Au moins 1 audit  par  ministère tous les</a:t>
            </a:r>
            <a:br>
              <a:rPr sz="1600"/>
            </a:b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2 mois, puis tous les 3 mois (juillet 200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150 audits lancés, en 6 vagues, portant sur plus de 150 Mds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1280" y="2089080"/>
            <a:ext cx="309708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Rythme ambitie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1280" y="3595680"/>
            <a:ext cx="309708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Démarche glob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780000" y="3417840"/>
            <a:ext cx="4968720" cy="16668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Diversité des services, procédures et fonctions, pour aborder les principaux enjeux de modernisation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Des vagues sectorielles (par ministère) et transversales (achats, paye, archivage, bureautiq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1280" y="5373720"/>
            <a:ext cx="309708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Démarche partenari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780000" y="5229360"/>
            <a:ext cx="4968720" cy="14396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Le choix des sujets relève de chaque ministre et du Premier minist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La démarche permet aux ministères de s’approprier le diagnostic et d’être les acteurs de leur démarche de modernis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5640" y="1344600"/>
            <a:ext cx="79200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adiographier le fonctionnement de l’Etat afin d’améliorer la qualité du service rendu aux Français tout en optimisant les coû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83B14-8BD2-4E0D-BE71-5F9D4F3B860B}" type="slidenum">
              <a:t>15</a:t>
            </a:fld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780000" y="3137040"/>
            <a:ext cx="4870440" cy="7236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Inspections interministérielles et ministérielle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avec l’appui de consultants du priv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87520" y="287496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Équipes d’audits mix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780000" y="1365120"/>
            <a:ext cx="4870440" cy="14400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Des propositions concrètes et quantifié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Mise en œuvre étudiée avec les parties prena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Des plans de transformation concrets sous</a:t>
            </a:r>
            <a:br>
              <a:rPr sz="1600"/>
            </a:b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18 mo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7520" y="140004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Visée opérationne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780000" y="4433760"/>
            <a:ext cx="4870440" cy="7146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ublication des rapports sur 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Le tableau de bord des aud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7520" y="422604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Démarche transpar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05200" y="5761080"/>
            <a:ext cx="4870440" cy="7142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Gains de productivit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Améliorations de la qualité de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2720" y="555300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Résult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concr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es audits de modernisation 2005-2007 : une démarche innovant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D049C-B815-438A-B446-8C82E1442E38}" type="slidenum">
              <a:t>16</a:t>
            </a:fld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 nouveau contexte politiqu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Election du Président Sarkozy en mai 2007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Nouvelle organisation gouvernementale avec 15 ministères seulemen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 ministère des finances divisé en deux :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n ministère de l’économie, des finances et de </a:t>
            </a:r>
            <a:r>
              <a:rPr b="0" lang="pl-PL" sz="1800" spc="-1" strike="noStrike" u="sng">
                <a:solidFill>
                  <a:srgbClr val="4d4d4d"/>
                </a:solidFill>
                <a:uFillTx/>
                <a:latin typeface="Arial"/>
              </a:rPr>
              <a:t>l’emploi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n ministère du budget, des </a:t>
            </a:r>
            <a:r>
              <a:rPr b="0" lang="pl-PL" sz="1800" spc="-1" strike="noStrike" u="sng">
                <a:solidFill>
                  <a:srgbClr val="4d4d4d"/>
                </a:solidFill>
                <a:uFillTx/>
                <a:latin typeface="Arial"/>
              </a:rPr>
              <a:t>comptes publics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et de la </a:t>
            </a:r>
            <a:r>
              <a:rPr b="0" lang="pl-PL" sz="1800" spc="-1" strike="noStrike" u="sng">
                <a:solidFill>
                  <a:srgbClr val="4d4d4d"/>
                </a:solidFill>
                <a:uFillTx/>
                <a:latin typeface="Arial"/>
              </a:rPr>
              <a:t>fonction publiqu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a réforme de l’Etat est pilotée par la présidence de la République avec le cabinet du Premier ministre et s’appuie sur le ministère du budget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ancement de la Révision Générale des Politiques Publiques (RGPP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a règle du non remplacement des départs à la retraite à hauteur de 1 sur 2 dans la fonction publiqu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2EF44-228F-427A-9346-24F1C8C7A69F}" type="slidenum">
              <a:t>17</a:t>
            </a:fld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755640" y="1915920"/>
            <a:ext cx="79279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Les enjeux de la modernisation de l’Etat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Le pilotage de la réforme de l’Et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De la modernisation à la réforme de l’Etat :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7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a50021"/>
                </a:solidFill>
                <a:latin typeface="Arial"/>
              </a:rPr>
              <a:t>la Révision Générale des Politiques Publique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Sommair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B7197-C5FC-4B83-94E5-371BBCD0BD86}" type="slidenum">
              <a:t>18</a:t>
            </a:fld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a Révision Générale des Politiques Publiqu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ancement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de la révision générale des politiques publiques (RGPP) par le Président de la République Nicolas SARKOZY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’objectif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de la RGPP : assurer le meilleur service public possible au moindre coût: réexamen des missions, économies budgétaires et réduction des effectif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 exercic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ambitieux (2007-2008)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76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Un pilotage politique au plus haut niveau : un comité de suivi composé de grands décideurs publics, un  arbitrage  par le Président de la République dans un </a:t>
            </a:r>
            <a:r>
              <a:rPr b="1" lang="pl-PL" sz="1900" spc="-1" strike="noStrike">
                <a:solidFill>
                  <a:srgbClr val="4d4d4d"/>
                </a:solidFill>
                <a:latin typeface="Arial"/>
              </a:rPr>
              <a:t>conseil de la modernisation des politiques publiques ;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76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Une démarche exhaustive : tous les champs de l’action publique, tous les ministères et les grands opérateurs de l’État ;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76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Des audits portant sur la légitimité et les objectifs de l’action de l’État, avant de proposer des réformes.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RGPP s’inspire 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bonnes pratiques internationales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tamment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e Canada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qui a conduit sa «revue des programmes» dès 1994, et a vu son déficit public passer de 5,9 % en 1992 à un excédent de 0,4 % en 1998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FA329-6705-4981-B0EA-7FA8C737B8A9}" type="slidenum">
              <a:t>19</a:t>
            </a:fld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755640" y="1915920"/>
            <a:ext cx="79279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Les enjeux de la modernisation de l’Etat</a:t>
            </a: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Le pilotage de la réforme de l’Et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De la modernisation à la réforme de l’Etat :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7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la Révision Générale des Politiques Publique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Sommair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72F45-204C-4FA5-AB69-E101AE3B041F}" type="slidenum">
              <a:t>2</a:t>
            </a:fld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880920" y="771480"/>
            <a:ext cx="8261640" cy="5967000"/>
            <a:chOff x="880920" y="771480"/>
            <a:chExt cx="8261640" cy="5967000"/>
          </a:xfrm>
        </p:grpSpPr>
        <p:sp>
          <p:nvSpPr>
            <p:cNvPr id="201" name=""/>
            <p:cNvSpPr/>
            <p:nvPr/>
          </p:nvSpPr>
          <p:spPr>
            <a:xfrm>
              <a:off x="1279440" y="771480"/>
              <a:ext cx="2722680" cy="539640"/>
            </a:xfrm>
            <a:prstGeom prst="rect">
              <a:avLst/>
            </a:prstGeom>
            <a:solidFill>
              <a:srgbClr val="cc0066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Que faisons-nous ?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788080" y="771480"/>
              <a:ext cx="2722680" cy="539640"/>
            </a:xfrm>
            <a:prstGeom prst="rect">
              <a:avLst/>
            </a:prstGeom>
            <a:solidFill>
              <a:srgbClr val="cc0066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Quels sont les besoins et les attentes collectives ?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80920" y="3881520"/>
              <a:ext cx="2160720" cy="557280"/>
            </a:xfrm>
            <a:prstGeom prst="rect">
              <a:avLst/>
            </a:prstGeom>
            <a:solidFill>
              <a:srgbClr val="000099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Qui doit faire 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76840" y="5614920"/>
              <a:ext cx="2170080" cy="566640"/>
            </a:xfrm>
            <a:prstGeom prst="rect">
              <a:avLst/>
            </a:prstGeom>
            <a:solidFill>
              <a:srgbClr val="006600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Quel scénario de transformation ?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5" name=""/>
            <p:cNvCxnSpPr>
              <a:stCxn id="206" idx="1"/>
              <a:endCxn id="203" idx="0"/>
            </p:cNvCxnSpPr>
            <p:nvPr/>
          </p:nvCxnSpPr>
          <p:spPr>
            <a:xfrm flipV="1" rot="10800000">
              <a:off x="1959840" y="2514240"/>
              <a:ext cx="1864440" cy="136764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07" name=""/>
            <p:cNvSpPr/>
            <p:nvPr/>
          </p:nvSpPr>
          <p:spPr>
            <a:xfrm>
              <a:off x="1341360" y="1433520"/>
              <a:ext cx="2497320" cy="7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els sont les objectifs de la politique publique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els services assure-t-elle ? Que garantit-elle ? A quoi contribue-t-elle ? à quoi remédie-t-elle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i sont les bénéficiaires visés et leurs caractéristiques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595680" y="6278400"/>
              <a:ext cx="2751120" cy="46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els scénarios d’évolution pour obtenir une politique publique plus efficace et moins coûteuse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Comment garantir une mise en œuvre efficace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813720" y="4529160"/>
              <a:ext cx="2328840" cy="8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elles évolutions permettent d’optimiser les moyens de cette politique tout en assurant le respect de ses objectifs et l’amélioration du cadre de travail des agents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Comment simplifier les structures et les procédures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814920" y="4521240"/>
              <a:ext cx="2288880" cy="5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Le financement de cette politique par l’Etat est-il justifié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i doit payer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els cofinancements sont envisageables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081840" y="1343160"/>
              <a:ext cx="2889000" cy="12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Cette politique sert-elle toujours l’intérêt public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Les services répondent-ils aux besoins ? Quelles sont les nouvelles attentes ? Quelle nouvelle offre de services proposer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Comment les bénéficiaires ont-ils évolué ? Qui sont les bénéficiaires effectifs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Cette politique présente t-elle des effets pervers ou des effets d’aubaine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0720">
                <a:lnSpc>
                  <a:spcPct val="85000"/>
                </a:lnSpc>
                <a:tabLst>
                  <a:tab algn="l" pos="0"/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19600" y="3900600"/>
              <a:ext cx="2160360" cy="557280"/>
            </a:xfrm>
            <a:prstGeom prst="rect">
              <a:avLst/>
            </a:prstGeom>
            <a:solidFill>
              <a:srgbClr val="000099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Qui doit payer 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896160" y="3881520"/>
              <a:ext cx="2160360" cy="557280"/>
            </a:xfrm>
            <a:prstGeom prst="rect">
              <a:avLst/>
            </a:prstGeom>
            <a:solidFill>
              <a:srgbClr val="000099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Comment faire mieux et moins cher ?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824280" y="2176560"/>
              <a:ext cx="2160720" cy="672840"/>
            </a:xfrm>
            <a:prstGeom prst="rect">
              <a:avLst/>
            </a:prstGeom>
            <a:solidFill>
              <a:srgbClr val="cc0066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Faut-il continuer à la faire de la sorte ?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4" name=""/>
            <p:cNvCxnSpPr>
              <a:stCxn id="201" idx="3"/>
              <a:endCxn id="206" idx="0"/>
            </p:cNvCxnSpPr>
            <p:nvPr/>
          </p:nvCxnSpPr>
          <p:spPr>
            <a:xfrm>
              <a:off x="4003200" y="1042560"/>
              <a:ext cx="901080" cy="113436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5" name=""/>
            <p:cNvCxnSpPr>
              <a:stCxn id="202" idx="1"/>
              <a:endCxn id="206" idx="0"/>
            </p:cNvCxnSpPr>
            <p:nvPr/>
          </p:nvCxnSpPr>
          <p:spPr>
            <a:xfrm flipV="1" rot="10800000">
              <a:off x="4903200" y="1042560"/>
              <a:ext cx="884880" cy="113436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6" name=""/>
            <p:cNvCxnSpPr>
              <a:stCxn id="206" idx="2"/>
              <a:endCxn id="212" idx="0"/>
            </p:cNvCxnSpPr>
            <p:nvPr/>
          </p:nvCxnSpPr>
          <p:spPr>
            <a:xfrm rot="5400000">
              <a:off x="4377600" y="3371760"/>
              <a:ext cx="1048320" cy="7200"/>
            </a:xfrm>
            <a:prstGeom prst="bentConnector3">
              <a:avLst>
                <a:gd name="adj1" fmla="val 52387"/>
              </a:avLst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17" name=""/>
            <p:cNvCxnSpPr>
              <a:stCxn id="206" idx="3"/>
              <a:endCxn id="213" idx="0"/>
            </p:cNvCxnSpPr>
            <p:nvPr/>
          </p:nvCxnSpPr>
          <p:spPr>
            <a:xfrm>
              <a:off x="5986080" y="2514240"/>
              <a:ext cx="1989720" cy="136764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18" name=""/>
            <p:cNvSpPr/>
            <p:nvPr/>
          </p:nvSpPr>
          <p:spPr>
            <a:xfrm>
              <a:off x="3462480" y="2919240"/>
              <a:ext cx="2919240" cy="718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Faut-il maintenir cette politique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Faut-il revoir les objectifs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els services doit-elle rendre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Comment adapter les outils de la politique publique ? Faut-il faire évoluer le champ des bénéficiaires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9" name=""/>
            <p:cNvCxnSpPr>
              <a:stCxn id="210" idx="2"/>
              <a:endCxn id="204" idx="0"/>
            </p:cNvCxnSpPr>
            <p:nvPr/>
          </p:nvCxnSpPr>
          <p:spPr>
            <a:xfrm flipH="1" rot="16200000">
              <a:off x="4772520" y="5426280"/>
              <a:ext cx="375480" cy="2160"/>
            </a:xfrm>
            <a:prstGeom prst="bentConnector3">
              <a:avLst>
                <a:gd name="adj1" fmla="val 49616"/>
              </a:avLst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20" name=""/>
            <p:cNvCxnSpPr>
              <a:stCxn id="203" idx="2"/>
              <a:endCxn id="204" idx="1"/>
            </p:cNvCxnSpPr>
            <p:nvPr/>
          </p:nvCxnSpPr>
          <p:spPr>
            <a:xfrm flipH="1" rot="16200000">
              <a:off x="2189880" y="4212000"/>
              <a:ext cx="1458000" cy="191376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21" name=""/>
            <p:cNvCxnSpPr>
              <a:stCxn id="209" idx="2"/>
              <a:endCxn id="204" idx="3"/>
            </p:cNvCxnSpPr>
            <p:nvPr/>
          </p:nvCxnSpPr>
          <p:spPr>
            <a:xfrm rot="5400000">
              <a:off x="6816240" y="4735440"/>
              <a:ext cx="392760" cy="193248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22" name=""/>
            <p:cNvSpPr/>
            <p:nvPr/>
          </p:nvSpPr>
          <p:spPr>
            <a:xfrm>
              <a:off x="1428840" y="938160"/>
              <a:ext cx="18720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889600" y="933480"/>
              <a:ext cx="18720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802040" y="217800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961920" y="408636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871800" y="409248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969240" y="4200480"/>
              <a:ext cx="18720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038480" y="603108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900000" y="4559400"/>
              <a:ext cx="2184480" cy="110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La politique peut-elle être assurée plus efficacement par d’autres acteurs ou sous d’autres formes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Est-ce à l’Etat de conduire cette politique ? A quel niveau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Avec quelles coopérations et articulations avec d’autres acteurs publics ou privés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0720">
                <a:lnSpc>
                  <a:spcPct val="85000"/>
                </a:lnSpc>
                <a:tabLst>
                  <a:tab algn="l" pos="0"/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 rot="16200000">
            <a:off x="-1652400" y="1654200"/>
            <a:ext cx="42055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927920" cy="5349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a grille d’analyse RGPP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6027C-8D87-4625-BFF2-45B27D6A96F3}" type="slidenum">
              <a:t>20</a:t>
            </a:fld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’analyse porte sur des dépenses de différentes natur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1217520" y="1698480"/>
            <a:ext cx="7024680" cy="4105440"/>
            <a:chOff x="1217520" y="1698480"/>
            <a:chExt cx="7024680" cy="4105440"/>
          </a:xfrm>
        </p:grpSpPr>
        <p:sp>
          <p:nvSpPr>
            <p:cNvPr id="234" name=""/>
            <p:cNvSpPr/>
            <p:nvPr/>
          </p:nvSpPr>
          <p:spPr>
            <a:xfrm>
              <a:off x="1217520" y="1698480"/>
              <a:ext cx="3381480" cy="5698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882080" y="1806480"/>
              <a:ext cx="2192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Arial"/>
                </a:rPr>
                <a:t>Appareil producti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44880" y="1700280"/>
              <a:ext cx="3383280" cy="5666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798880" y="1806480"/>
              <a:ext cx="1599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Arial"/>
                </a:rPr>
                <a:t>Interven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217520" y="2397240"/>
              <a:ext cx="3381480" cy="1350720"/>
            </a:xfrm>
            <a:prstGeom prst="rect">
              <a:avLst/>
            </a:prstGeom>
            <a:noFill/>
            <a:ln cap="rnd"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974960" y="2452680"/>
              <a:ext cx="193680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1c782d"/>
                  </a:solidFill>
                  <a:latin typeface="Arial"/>
                </a:rPr>
                <a:t>Nature de dépen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859280" y="2398680"/>
              <a:ext cx="3382920" cy="1351080"/>
            </a:xfrm>
            <a:prstGeom prst="rect">
              <a:avLst/>
            </a:prstGeom>
            <a:noFill/>
            <a:ln cap="rnd" w="22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618160" y="2454120"/>
              <a:ext cx="193680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993366"/>
                  </a:solidFill>
                  <a:latin typeface="Arial"/>
                </a:rPr>
                <a:t>Nature de dépen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55680" y="2670120"/>
              <a:ext cx="330984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Dépenses de personnel, dépenses de fonctionnement (y.c. subventions aux opérateur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Investissements « administratifs » (informatique, immobilier, etc.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927680" y="2743200"/>
              <a:ext cx="3311280" cy="93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Dépenses d’interventions (transferts, subventions) investissements structurants (défense, équipement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Dépenses fisc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217520" y="3938760"/>
              <a:ext cx="1631880" cy="1838160"/>
            </a:xfrm>
            <a:prstGeom prst="rect">
              <a:avLst/>
            </a:prstGeom>
            <a:noFill/>
            <a:ln cap="rnd"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862520" y="3938760"/>
              <a:ext cx="1633680" cy="1865160"/>
            </a:xfrm>
            <a:prstGeom prst="rect">
              <a:avLst/>
            </a:prstGeom>
            <a:noFill/>
            <a:ln cap="rnd" w="22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610320" y="3938760"/>
              <a:ext cx="1631880" cy="1865160"/>
            </a:xfrm>
            <a:prstGeom prst="rect">
              <a:avLst/>
            </a:prstGeom>
            <a:noFill/>
            <a:ln cap="rnd" w="22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962440" y="3938760"/>
              <a:ext cx="1633320" cy="1863720"/>
            </a:xfrm>
            <a:prstGeom prst="rect">
              <a:avLst/>
            </a:prstGeom>
            <a:noFill/>
            <a:ln cap="rnd"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398600" y="4003560"/>
              <a:ext cx="136044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1c782d"/>
                  </a:solidFill>
                  <a:latin typeface="Arial"/>
                </a:rPr>
                <a:t>Fonctions d’appu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127320" y="4003560"/>
              <a:ext cx="136044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1c782d"/>
                  </a:solidFill>
                  <a:latin typeface="Arial"/>
                </a:rPr>
                <a:t>Fonc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1c782d"/>
                  </a:solidFill>
                  <a:latin typeface="Arial"/>
                </a:rPr>
                <a:t>opérationnel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927680" y="4003560"/>
              <a:ext cx="150336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993366"/>
                  </a:solidFill>
                  <a:latin typeface="Arial"/>
                </a:rPr>
                <a:t>Interventions discrétionnai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727680" y="4003560"/>
              <a:ext cx="136080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993366"/>
                  </a:solidFill>
                  <a:latin typeface="Arial"/>
                </a:rPr>
                <a:t>Interventions à guichet ouve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255680" y="4508640"/>
              <a:ext cx="1509840" cy="12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Administrations centr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Soutien des politiques publiqu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Fonctions support transvers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056040" y="4508640"/>
              <a:ext cx="1509480" cy="12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Relations directes avec l’us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Délivrance d’un service public, d’une pres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927680" y="4508640"/>
              <a:ext cx="1511280" cy="12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Logique de subventionnement classiqu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Eventuellement contractualisé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656400" y="4508640"/>
              <a:ext cx="1511280" cy="12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Logiques de prestations, de transferts direc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Sur des critères ouvrant un dro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8FD6E-83ED-456B-B9D1-7A82B55EBE2D}" type="slidenum">
              <a:t>21</a:t>
            </a:fld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601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’organisation des travaux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295200" y="981000"/>
            <a:ext cx="8739360" cy="6096960"/>
            <a:chOff x="295200" y="981000"/>
            <a:chExt cx="8739360" cy="6096960"/>
          </a:xfrm>
        </p:grpSpPr>
        <p:sp>
          <p:nvSpPr>
            <p:cNvPr id="258" name=""/>
            <p:cNvSpPr/>
            <p:nvPr/>
          </p:nvSpPr>
          <p:spPr>
            <a:xfrm>
              <a:off x="295200" y="981000"/>
              <a:ext cx="5932440" cy="5871960"/>
            </a:xfrm>
            <a:prstGeom prst="rect">
              <a:avLst/>
            </a:pr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95280" y="1143720"/>
              <a:ext cx="2727360" cy="106812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15 équipes d’audit ministériell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(chef d’équipe, membres de corps d’inspection, consultant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348000" y="1148760"/>
              <a:ext cx="2735280" cy="133812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6 équipes d’audit sur des grandes politiques d’interven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Méthode spécifique – rattachement ultérieur à des équipes d’audi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64360" y="1143720"/>
              <a:ext cx="2741400" cy="1068120"/>
            </a:xfrm>
            <a:prstGeom prst="roundRect">
              <a:avLst>
                <a:gd name="adj" fmla="val 16667"/>
              </a:avLst>
            </a:prstGeom>
            <a:solidFill>
              <a:srgbClr val="5642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4 groupes de travail interministériel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Pilotage autonome, différent des équipes d’audi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68360" y="2625120"/>
              <a:ext cx="2662200" cy="4183200"/>
            </a:xfrm>
            <a:prstGeom prst="rect">
              <a:avLst/>
            </a:prstGeom>
            <a:noFill/>
            <a:ln cap="sq" w="93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Action extérieure de l’Eta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Aide publique au développ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Agriculture et pêch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Culture et communication et Services du Premier minist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éfen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cologie, développement et aménagement durab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nseignement scolai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nseignement supérieur et recherch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éseaux financi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Just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anté – solidarités – spor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écurit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Immigration et intégr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Intérieu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Outre-m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21080" y="2625120"/>
              <a:ext cx="2662200" cy="3735360"/>
            </a:xfrm>
            <a:prstGeom prst="rect">
              <a:avLst/>
            </a:prstGeom>
            <a:noFill/>
            <a:ln cap="sq" w="93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Famil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Assurance-malad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Politiques de solidarité et de lutte contre la pauvret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Ville et log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mploi et formation professionnel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éveloppement des entrepris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372360" y="2625120"/>
              <a:ext cx="2662200" cy="2538720"/>
            </a:xfrm>
            <a:prstGeom prst="rect">
              <a:avLst/>
            </a:prstGeom>
            <a:noFill/>
            <a:ln cap="sq" w="9360">
              <a:solidFill>
                <a:srgbClr val="5642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Gestion des ressources humai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Organisation de l’administration territoria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lations entre l’Etat et les collectivités loc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implification des procédures inter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372360" y="5240160"/>
              <a:ext cx="2662200" cy="1118880"/>
            </a:xfrm>
            <a:prstGeom prst="rect">
              <a:avLst/>
            </a:prstGeom>
            <a:noFill/>
            <a:ln cap="sq" w="9360">
              <a:solidFill>
                <a:srgbClr val="564294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+ Un chantier spécifique : la réduction de la charge administrative sur les entreprises et sur les collectivités loc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6" name=""/>
            <p:cNvCxnSpPr>
              <a:stCxn id="262" idx="2"/>
              <a:endCxn id="263" idx="2"/>
            </p:cNvCxnSpPr>
            <p:nvPr/>
          </p:nvCxnSpPr>
          <p:spPr>
            <a:xfrm flipH="1" flipV="1" rot="5400000">
              <a:off x="3050640" y="5109120"/>
              <a:ext cx="450360" cy="2951640"/>
            </a:xfrm>
            <a:prstGeom prst="bentConnector3">
              <a:avLst>
                <a:gd name="adj1" fmla="val -59600"/>
              </a:avLst>
            </a:prstGeom>
            <a:ln cap="sq" w="9360">
              <a:solidFill>
                <a:srgbClr val="564294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62" idx="2"/>
              <a:endCxn id="265" idx="2"/>
            </p:cNvCxnSpPr>
            <p:nvPr/>
          </p:nvCxnSpPr>
          <p:spPr>
            <a:xfrm flipH="1" flipV="1" rot="5400000">
              <a:off x="4525560" y="3632760"/>
              <a:ext cx="451800" cy="5902920"/>
            </a:xfrm>
            <a:prstGeom prst="bentConnector3">
              <a:avLst>
                <a:gd name="adj1" fmla="val -59409"/>
              </a:avLst>
            </a:prstGeom>
            <a:ln cap="sq" w="9360">
              <a:solidFill>
                <a:srgbClr val="564294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4640B-D445-43FB-8A55-7ECEA5E04581}" type="slidenum">
              <a:t>22</a:t>
            </a:fld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250920" y="2062080"/>
            <a:ext cx="1393560" cy="719280"/>
          </a:xfrm>
          <a:custGeom>
            <a:avLst/>
            <a:gdLst>
              <a:gd name="textAreaLeft" fmla="*/ 0 w 1393560"/>
              <a:gd name="textAreaRight" fmla="*/ 1393920 w 13935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18" y="0"/>
                </a:lnTo>
                <a:lnTo>
                  <a:pt x="21600" y="10800"/>
                </a:lnTo>
                <a:lnTo>
                  <a:pt x="1891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Lancement/ cad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692360" y="2062080"/>
            <a:ext cx="2808360" cy="719280"/>
          </a:xfrm>
          <a:custGeom>
            <a:avLst/>
            <a:gdLst>
              <a:gd name="textAreaLeft" fmla="*/ 0 w 2808360"/>
              <a:gd name="textAreaRight" fmla="*/ 2808720 w 28083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91" y="0"/>
                </a:lnTo>
                <a:lnTo>
                  <a:pt x="21600" y="10800"/>
                </a:lnTo>
                <a:lnTo>
                  <a:pt x="203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Comité de Suivi 1er pa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(Travaux d'analyse et scénarios intermédiair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548240" y="2062080"/>
            <a:ext cx="2808360" cy="719280"/>
          </a:xfrm>
          <a:custGeom>
            <a:avLst/>
            <a:gdLst>
              <a:gd name="textAreaLeft" fmla="*/ 0 w 2808360"/>
              <a:gd name="textAreaRight" fmla="*/ 2808720 w 28083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60" y="0"/>
                </a:lnTo>
                <a:lnTo>
                  <a:pt x="21600" y="10800"/>
                </a:lnTo>
                <a:lnTo>
                  <a:pt x="2066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Comité de Suivi 2nd pa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(Scénarios définitif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924360" y="1341360"/>
            <a:ext cx="13683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Conseil de la modernisation des politiques publiq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45080" y="1341360"/>
            <a:ext cx="13687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Conseil de la modernisation des politiques publiq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380360" y="2062080"/>
            <a:ext cx="1763640" cy="719280"/>
          </a:xfrm>
          <a:custGeom>
            <a:avLst/>
            <a:gdLst>
              <a:gd name="textAreaLeft" fmla="*/ 0 w 1763640"/>
              <a:gd name="textAreaRight" fmla="*/ 1764000 w 176364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34" y="0"/>
                </a:lnTo>
                <a:lnTo>
                  <a:pt x="21600" y="10800"/>
                </a:lnTo>
                <a:lnTo>
                  <a:pt x="19034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Actions de trans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50920" y="1844640"/>
            <a:ext cx="1225440" cy="2174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Juillet-août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692360" y="1844640"/>
            <a:ext cx="2657520" cy="2174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Septembre-décembre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546440" y="1844640"/>
            <a:ext cx="2678400" cy="2160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Janvier-mai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380360" y="1844640"/>
            <a:ext cx="1552680" cy="2174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2008-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79280" y="2925720"/>
            <a:ext cx="1441440" cy="31687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ancement de la démarche par le Premier minis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se en place des équipes d’aud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692360" y="2925720"/>
            <a:ext cx="2808360" cy="316872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n  2007, chaque ministre passe devant le Comité de suivi pour examiner des scenarios d’évolution des politiques de son ministè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n premier Conseil de la modernisation des politiques publiques examine l’état d’avancement des travaux en décembre 20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0" y="2925720"/>
            <a:ext cx="2664000" cy="316872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euxième passage devant le Comité de suivi, afin d’approfondir les scenarios, d’évaluer leurs impacts et d’étudier leurs modalités d’accompagn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Juin 2008, le Conseil de la modernisation des politiques publiques est saisi des scénarios stratégiques de tous les ministères et adopte les principales déci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451640" y="4483080"/>
            <a:ext cx="162900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451640" y="2925720"/>
            <a:ext cx="1513080" cy="316872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se en œuvre des réformes décidées sur la période 2009-2011, dans un cadre budgétaire pluriannu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bilisation de l’ensemble des leviers de moder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71640" y="2781360"/>
            <a:ext cx="144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916360" y="2781360"/>
            <a:ext cx="144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724360" y="2781360"/>
            <a:ext cx="180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101080" y="2781360"/>
            <a:ext cx="144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368960" y="1882800"/>
            <a:ext cx="144360" cy="96840"/>
          </a:xfrm>
          <a:prstGeom prst="hexagon">
            <a:avLst>
              <a:gd name="adj" fmla="val 37268"/>
              <a:gd name="vf" fmla="val 115470"/>
            </a:avLst>
          </a:pr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236000" y="1882800"/>
            <a:ext cx="144360" cy="96840"/>
          </a:xfrm>
          <a:prstGeom prst="hexagon">
            <a:avLst>
              <a:gd name="adj" fmla="val 37268"/>
              <a:gd name="vf" fmla="val 115470"/>
            </a:avLst>
          </a:pr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55640" y="301680"/>
            <a:ext cx="7927920" cy="8236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 calendrier de la RGPP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7093080" y="208080"/>
            <a:ext cx="1908000" cy="106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21C0E-B619-48C3-914D-B21263FE6AFB}" type="slidenum">
              <a:t>23</a:t>
            </a:fld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résultats de la RGPP (1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65160" y="1522080"/>
            <a:ext cx="7710480" cy="50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SzPct val="150000"/>
              <a:buFont typeface="Wingdings 3" charset="2"/>
              <a:buChar char="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350 mesures de réforme annoncées en juin 2008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Des économi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Une économie de 7,7 Mds€ sur 4 ans, soit environ 5 % d’économies sur le périmètre étudié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La réduction des effectifs : 50 % de non remplacement des départs à la retraite : 30.600 suppressions en budget 2009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La modernisation des ministèr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Conséquences des fusions de plusieurs ministère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Réduction de 50 directions d’administration centrale (sur 200) (Finances: une direction générale des finances publiques pour s’occuper de l’impôt)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La réforme de l’Etat territoria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Resserrement des implantations territoriales : défense – justice – santé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Le niveau régional est de droit commun pour la programmation des politiques publiques + autorité hiérarchique du préfet de région sur le préfet de département + un nombre réduit de directions régionales : 8 directions au lieu de 30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Le département : l’exécution des politiques publiques : resserrement autour du Préfet avec 3 directions interministérielles nouvelle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86F1F-6469-44DB-A6EF-CE6391869AB7}" type="slidenum">
              <a:t>24</a:t>
            </a:fld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résultats de la RGPP (2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755640" y="1415880"/>
            <a:ext cx="7920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es chantiers transvers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Etat – collectivités locales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Clarifier les compétences à l’issue des lois de décentralisati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Alléger et encadrer les normes que l’Etat fait peser sur les collectivité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Meilleur respect de la contrainte globale des finances publiqu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Vers une réforme des niveaux d’administrations en 2009 ?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communes/communautés de communes/départements/région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a simplification des procédures internes de l’Eta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Création « d’agences de service public » donnant au sein de l’Etat une plus grande souplesse de gestion à des structures autonom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éguler l’inflation normative (étude d’impact préalable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Simplifier des procédures (d’organisation des ministères – de passation des marchés – de consultations …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éformer le contrôle de la dépense publique (expérimenter un comité d’engagement à la place du visa préalable des actes du contrôle financier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0D7F7-D35C-4307-96D7-F1127D40770C}" type="slidenum">
              <a:t>25</a:t>
            </a:fld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résultats de la RGPP (3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55640" y="1522080"/>
            <a:ext cx="7920000" cy="50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La gouvernance des finances publiqu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Un budget pluriannuel pour l’Etat (2009-2011) avec une loi de programmation des finances publiques (votée en décembre 2008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Des règles d’adoption plus strictes pour les dépenses fiscal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La rationalisation et la mutualisation des fonctions suppor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Mise en place d’un opérateur national de pay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Centralisation de la politique immobilièr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Réduction de «l’impôt papier» (allégement des charges pesant sur les entreprises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Développement de l’administration électronique (e-gov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Réforme de l’organisation des achats (une agence nationale des achats mutualisés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Amélioration de l’accueil dans les services publics (accueil multicanal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L’accompagnement des restructurations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par une politique de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ressources humaines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adaptée : primes de mobilité et indemnités de départ volontair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7E67D-9905-44A1-9CC6-2F7EC3B22CC9}" type="slidenum">
              <a:t>26</a:t>
            </a:fld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Vers une modification du statut de la fonction publique ?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 algn="just">
              <a:spcBef>
                <a:spcPts val="2500"/>
              </a:spcBef>
              <a:buNone/>
              <a:tabLst>
                <a:tab algn="l" pos="0"/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ivre blanc de 40 propositions pour modernisation la fonction publique en 2008 pour un projet de  loi en 2009,  dont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63600" indent="-36360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éorganiser le statut de corps en créant  7 grandes filières métiers :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administration générale / finances / sociale / éducation recherche / culturelle / technique / sécurité (hors militaires et magistrat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63600" indent="-36360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edéfinir la place du contrat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contrats de droit public pour des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mploi de souveraineté  et des contrats de droit privé pour les autres  autres emplois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63600" indent="-36360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Fixer une part d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émunération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au mérit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: une composante liée au grade (ancienneté) + une composante liée à l’emploi (part fixe et part variable liée aux résultat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438280" y="6489720"/>
            <a:ext cx="495324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Conférence cofinancée par l'Union Européenne</a:t>
            </a:r>
            <a:r>
              <a:rPr b="0" lang="fr-FR" sz="9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dans le cadre du Fond Social Europé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2209680" y="6477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1" name=""/>
          <p:cNvGraphicFramePr/>
          <p:nvPr/>
        </p:nvGraphicFramePr>
        <p:xfrm>
          <a:off x="6629400" y="6477120"/>
          <a:ext cx="83808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29400" y="6477120"/>
                    <a:ext cx="83808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37DD4-F245-4F20-8970-DBDBB09B4382}" type="slidenum">
              <a:t>27</a:t>
            </a:fld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044720" y="4940280"/>
            <a:ext cx="3095640" cy="1584360"/>
          </a:xfrm>
          <a:prstGeom prst="cloudCallout">
            <a:avLst>
              <a:gd name="adj1" fmla="val 50462"/>
              <a:gd name="adj2" fmla="val -100601"/>
            </a:avLst>
          </a:prstGeom>
          <a:solidFill>
            <a:srgbClr val="ffffff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a situation des finances publiques (déficit et dette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00720" y="2133720"/>
            <a:ext cx="2592360" cy="1871640"/>
          </a:xfrm>
          <a:prstGeom prst="cloudCallout">
            <a:avLst>
              <a:gd name="adj1" fmla="val -93722"/>
              <a:gd name="adj2" fmla="val 44995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a démographie, l’attractivité de la fonction publ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53080" y="4581360"/>
            <a:ext cx="2808360" cy="1727280"/>
          </a:xfrm>
          <a:prstGeom prst="cloudCallout">
            <a:avLst>
              <a:gd name="adj1" fmla="val -70972"/>
              <a:gd name="adj2" fmla="val -76287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es évolutions de la société, les attentes des citoy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92360" y="1339920"/>
            <a:ext cx="3167280" cy="1800000"/>
          </a:xfrm>
          <a:prstGeom prst="cloudCallout">
            <a:avLst>
              <a:gd name="adj1" fmla="val -11652"/>
              <a:gd name="adj2" fmla="val 80157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a compétitivité globale du pays dans une économie mondialis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5640" y="2494080"/>
            <a:ext cx="2952720" cy="1871640"/>
          </a:xfrm>
          <a:prstGeom prst="cloudCallout">
            <a:avLst>
              <a:gd name="adj1" fmla="val 65055"/>
              <a:gd name="adj2" fmla="val 23708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’articulation des différents niveaux d’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tat, Collectivités locales, Union européenn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16360" y="3414600"/>
            <a:ext cx="1746000" cy="911160"/>
          </a:xfrm>
          <a:prstGeom prst="ellipse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Déf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’État doit faire face à des défis considérabl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5B138-45CA-4BC7-84F2-0B826DCD37B2}" type="slidenum">
              <a:t>3</a:t>
            </a:fld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Contexte et périmètre de la réforme de l’Et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ontexte :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une situation de finances publiques difficile: dette de 63,9% du PIB et déficit de 2,7% du PIB en 2007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érimètre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:  L’Etat n’est qu’une partie de la sphère publique, même les citoyens s’adressent toujours au Gouvernement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e difficulté : des politiques publiques définies par l’Etat mais dont certaines sont gérées par des entités autonomes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569880" y="3933720"/>
            <a:ext cx="8535960" cy="2080080"/>
            <a:chOff x="569880" y="3933720"/>
            <a:chExt cx="8535960" cy="2080080"/>
          </a:xfrm>
        </p:grpSpPr>
        <p:sp>
          <p:nvSpPr>
            <p:cNvPr id="104" name=""/>
            <p:cNvSpPr/>
            <p:nvPr/>
          </p:nvSpPr>
          <p:spPr>
            <a:xfrm>
              <a:off x="2914560" y="4121640"/>
              <a:ext cx="1578240" cy="82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Eta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+ organismes div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003640" y="4115160"/>
              <a:ext cx="1870200" cy="82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Administrations publiques local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307280" y="4226760"/>
              <a:ext cx="1727280" cy="5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Sécurité socia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69880" y="3933720"/>
              <a:ext cx="1913040" cy="122868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50880" y="4259160"/>
              <a:ext cx="1758960" cy="5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Administrations publiqu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916360" y="3940200"/>
              <a:ext cx="1654200" cy="12222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003640" y="3940200"/>
              <a:ext cx="1872000" cy="12222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307280" y="3940200"/>
              <a:ext cx="1798560" cy="12222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484360" y="4227480"/>
              <a:ext cx="43020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3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72000" y="4227480"/>
              <a:ext cx="43020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3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877080" y="4227480"/>
              <a:ext cx="43020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3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4360" y="5380200"/>
              <a:ext cx="158256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991 Mds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52,4% PI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916360" y="5380200"/>
              <a:ext cx="158256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340 Mds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8% PI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148360" y="5380200"/>
              <a:ext cx="158256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207 Mds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% PI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451640" y="5380200"/>
              <a:ext cx="158292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444  Mds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3,5% PI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60656-5A3F-4964-9F2C-26369F21B500}" type="slidenum">
              <a:t>4</a:t>
            </a:fld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éléments du budget de l’Etat françai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es natures de dépens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43%  de dépenses de personn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22% de dépenses d’intervention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16% de charge de la dett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14% de fonctionnement couran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5% d’investissemen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es finalités de la dépens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21,5% Education national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13,5% Missions sociales-emploi-santé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13 % Défens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8,6% Recherche et enseignement supérieur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es effectif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: 2,2 M de fonctionnaires (5 M au total avec les collectivités locales et les hôpitaux soit 20% des actifs)  dont la moitié sont des  enseignants financés sur le budget de l’Eta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636A4-FED3-43DE-B64C-3980BAAFCEE2}" type="slidenum">
              <a:t>5</a:t>
            </a:fld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leviers de la modernisation de l’Ét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900000" y="1690200"/>
            <a:ext cx="7613640" cy="4258080"/>
            <a:chOff x="900000" y="1690200"/>
            <a:chExt cx="7613640" cy="4258080"/>
          </a:xfrm>
        </p:grpSpPr>
        <p:sp>
          <p:nvSpPr>
            <p:cNvPr id="123" name=""/>
            <p:cNvSpPr/>
            <p:nvPr/>
          </p:nvSpPr>
          <p:spPr>
            <a:xfrm>
              <a:off x="900000" y="1758960"/>
              <a:ext cx="7613640" cy="4189320"/>
            </a:xfrm>
            <a:prstGeom prst="rect">
              <a:avLst/>
            </a:prstGeom>
            <a:solidFill>
              <a:srgbClr val="ffffff"/>
            </a:solidFill>
            <a:ln cap="sq" w="9360">
              <a:solidFill>
                <a:srgbClr val="840084"/>
              </a:solidFill>
              <a:miter/>
            </a:ln>
            <a:effectLst>
              <a:outerShdw dist="17819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73360" y="1690200"/>
              <a:ext cx="6653160" cy="407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>
                <a:lnSpc>
                  <a:spcPct val="150000"/>
                </a:lnSpc>
                <a:spcBef>
                  <a:spcPts val="3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2800" spc="-1" strike="noStrike">
                  <a:solidFill>
                    <a:srgbClr val="a50021"/>
                  </a:solidFill>
                  <a:latin typeface="Arial"/>
                </a:rPr>
                <a:t>Trois leviers «classiques» essentiel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73200">
                <a:lnSpc>
                  <a:spcPct val="15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a nouvelle gestion publique (la LOLF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73200">
                <a:lnSpc>
                  <a:spcPct val="15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a simplification et l’exigence de qualit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73200">
                <a:lnSpc>
                  <a:spcPct val="15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e développement de l’administration électroniqu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260360" y="2984400"/>
              <a:ext cx="824040" cy="435240"/>
            </a:xfrm>
            <a:prstGeom prst="ellips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60360" y="3776760"/>
              <a:ext cx="824040" cy="434880"/>
            </a:xfrm>
            <a:prstGeom prst="ellipse">
              <a:avLst/>
            </a:prstGeom>
            <a:solidFill>
              <a:srgbClr val="ff00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260360" y="4640400"/>
              <a:ext cx="824040" cy="434880"/>
            </a:xfrm>
            <a:prstGeom prst="ellipse">
              <a:avLst/>
            </a:prstGeom>
            <a:solidFill>
              <a:srgbClr val="8400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07A3E-1BD1-41A8-97FB-5D8A422984D0}" type="slidenum">
              <a:t>6</a:t>
            </a:fld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1360" indent="0">
              <a:buNone/>
              <a:tabLst>
                <a:tab algn="l" pos="0"/>
                <a:tab algn="l" pos="441360"/>
                <a:tab algn="l" pos="1355760"/>
                <a:tab algn="l" pos="2270160"/>
                <a:tab algn="l" pos="3184560"/>
                <a:tab algn="l" pos="4098960"/>
                <a:tab algn="l" pos="5013360"/>
                <a:tab algn="l" pos="5927760"/>
                <a:tab algn="l" pos="6842160"/>
                <a:tab algn="l" pos="7756560"/>
                <a:tab algn="l" pos="8670960"/>
                <a:tab algn="l" pos="9585360"/>
                <a:tab algn="l" pos="1049976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1. La nouvelle gestion publique promue par la LOLF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Une réflexion sur le sens de l’action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: formalisation de la stratégie et des objectifs des politiques publiqu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Liberté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: globalisation des enveloppes de crédits, déconcentration des décisions de gestion pour trouver des gains de performance au plus près du terrai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Responsabilité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: logique de performance (objectifs et indicateurs), outils de pilotage (système d’information budgétaire et comptable, comptabilité d’exercice, contrôle de gestion 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755640" y="3213000"/>
            <a:ext cx="8128080" cy="3475080"/>
            <a:chOff x="755640" y="3213000"/>
            <a:chExt cx="8128080" cy="3475080"/>
          </a:xfrm>
        </p:grpSpPr>
        <p:sp>
          <p:nvSpPr>
            <p:cNvPr id="131" name=""/>
            <p:cNvSpPr/>
            <p:nvPr/>
          </p:nvSpPr>
          <p:spPr>
            <a:xfrm>
              <a:off x="3564000" y="4164120"/>
              <a:ext cx="2160360" cy="91116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55640" y="3924360"/>
              <a:ext cx="2400480" cy="1390680"/>
            </a:xfrm>
            <a:prstGeom prst="rect">
              <a:avLst/>
            </a:prstGeom>
            <a:solidFill>
              <a:srgbClr val="66cc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Arial"/>
                </a:rPr>
                <a:t>Des acteu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26920" y="4438800"/>
              <a:ext cx="2171880" cy="6588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Précisément identifié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Moins nombreu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Plus responsab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52720" y="4394160"/>
              <a:ext cx="1487520" cy="4557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Capacité d’a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987640" y="4237200"/>
              <a:ext cx="743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4400" spc="-1" strike="noStrike">
                  <a:solidFill>
                    <a:srgbClr val="fc0128"/>
                  </a:solidFill>
                  <a:latin typeface="Arial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300720" y="3573360"/>
              <a:ext cx="2403720" cy="3114720"/>
            </a:xfrm>
            <a:prstGeom prst="rect">
              <a:avLst/>
            </a:prstGeom>
            <a:noFill/>
            <a:ln cap="sq" w="1260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16200000">
              <a:off x="5703840" y="4487400"/>
              <a:ext cx="484200" cy="322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c0128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580080" y="3616200"/>
              <a:ext cx="2114640" cy="30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Des gains d'efficacité au plus près des activités des servic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Des équipes motivées et mobilisées vers les résultats à atteind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Une meilleure capacité à adapter l'action en fonction des résultats et à résoudre les problèm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337440" y="3772080"/>
              <a:ext cx="299880" cy="32508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37440" y="4781520"/>
              <a:ext cx="301320" cy="32544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337440" y="6005520"/>
              <a:ext cx="301320" cy="32544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48000" y="5148360"/>
              <a:ext cx="2733840" cy="658800"/>
            </a:xfrm>
            <a:prstGeom prst="rect">
              <a:avLst/>
            </a:prstGeom>
            <a:noFill/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Un pré requis pour construire un système de responsabilité orienté vers les résulta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221520" y="3213000"/>
              <a:ext cx="266220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99"/>
                  </a:solidFill>
                  <a:latin typeface="Arial"/>
                </a:rPr>
                <a:t>Les bénéfices attendu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2F5D2-8F48-4C95-962E-B50E0D589F45}" type="slidenum">
              <a:t>7</a:t>
            </a:fld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2. La qualité et la simplific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 lois de simplification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annuelles (pour les particuliers et les entreprise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utte contre l’inflation normativ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en collaboration avec le Secrétariat général du Gouvernement (SGG) : les études d’impac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rtification/labellisation des services accueillant du public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: généralisation en 2006 des tests de qualité, évolution de la charte Marianne vers un référentiel de certification/labellisation qualité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mesure et la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éduction de la charge administrativ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esant sur les usagers, particuliers et entreprises : mise en place d’un indicateur de complexité des démarches administrativ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éduction et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tionalisation des commissions administrative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(décret du 8 juin 2006 conduisant à ne créer les commissions que pour une durée de vie limitée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EF462-EDEA-4904-AD41-3CFFBE23A337}" type="slidenum">
              <a:t>8</a:t>
            </a:fld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1800" indent="0">
              <a:buNone/>
              <a:tabLst>
                <a:tab algn="l" pos="0"/>
                <a:tab algn="l" pos="361800"/>
                <a:tab algn="l" pos="1276200"/>
                <a:tab algn="l" pos="2190600"/>
                <a:tab algn="l" pos="3105000"/>
                <a:tab algn="l" pos="4019400"/>
                <a:tab algn="l" pos="4933800"/>
                <a:tab algn="l" pos="5848200"/>
                <a:tab algn="l" pos="6762600"/>
                <a:tab algn="l" pos="7677000"/>
                <a:tab algn="l" pos="8591400"/>
                <a:tab algn="l" pos="9505800"/>
                <a:tab algn="l" pos="1042020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3. Le développement de l’administration électroniqu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Garantir les échanges électroniques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L’ordonnance du 8 décembre 2005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relative aux échanges électroniques, pose les bases juridiques nécessaires à l’accélération et à la généralisation de l’administration électronique (validité juridique des courriers électroniques, signature électronique des actes administratifs, espace de stockage)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utualiser les investissements pour éviter leur redondanc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Le schéma directeur de l’administration électronique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organise le pilotage interministériel du développement de l’administration électronique, en érigeant comme règle la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mutualisation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et l’efficacité des services (47 initiatives portées par un ministère chef de file)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Elaborer les référentiels généraux d’interopérabilité et de sécurité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l s’agit pour l’Etat de définir un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corpus de règles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qui combine à la fois les spécificités métiers des administrations, le respect de la confidentialité des données, la fluidité des échanges de données numériques, la sécurité des systèmes d’information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38F9B-FA9F-4E3D-A998-F19C29D4F91A}" type="slidenum">
              <a:t>9</a:t>
            </a:fld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21:39:02Z</dcterms:created>
  <dc:creator>Alexandre MONTAY</dc:creator>
  <dc:description/>
  <dc:language>en-US</dc:language>
  <cp:lastModifiedBy>KAS</cp:lastModifiedBy>
  <cp:lastPrinted>2006-05-04T09:07:55Z</cp:lastPrinted>
  <dcterms:modified xsi:type="dcterms:W3CDTF">2009-02-05T12:50:46Z</dcterms:modified>
  <cp:revision>555</cp:revision>
  <dc:subject/>
  <dc:title>Présentation PowerPoint</dc:title>
</cp:coreProperties>
</file>